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467-4E8D-4D52-B0EC-3ABFC9A2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349-E635-409E-BDD0-BD8D9F9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73E-078F-432D-BAE8-9A542558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AC6-DA95-4AC8-8B71-55D1DE0E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B9C4-CD1D-420A-B38C-B010097C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6A1-8FBA-4E65-B12F-DB6D5B52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98B2-8E0C-40B3-8090-30E73D3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11E0-5BB0-4D7B-9DDB-91219550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1855-3E7F-4AFF-BA1C-50A9F3E1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4906-C8B0-4EE5-B74B-D977F0C9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11A4-C8DD-4F36-9BCF-1E0986F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AA0-A7B2-4322-A054-BAE0EC8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467-2F3D-4EDA-ACFE-BD24638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574B-980C-49C6-8260-51D56D3E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B43-2EF7-4554-B2BE-4497F71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52CA-FA5C-4ACD-BDA5-A9C0E013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E7F0-205A-45B9-B26A-86958547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337-2396-41E7-BD68-29F8CC1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858-9412-4620-83DE-3F52D28A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38D-BEF1-48E2-949F-9475BB3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89F-D98F-4D0D-9E5F-5F25BC3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9BD-7C64-4D9E-8307-AE79538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778-858F-4D42-A56F-D663EFB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747-9FC6-4CFF-9D7A-A695679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D07A-FE6C-4CE2-9A1C-5EA9535CC5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6C80-C126-45DE-BFBF-F269C9EA6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bygates.com/WebComponents/Catalog/Public/showproduct.asp?id=341&amp;cat=Childproofin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abygates.com/WebComponents/Catalog/Public/showproduct.asp?id=693&amp;cat=Childproofin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abygates.com/WebComponents/Catalog/Public/showproduct.asp?id=168&amp;cat=Childproofi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babygates.com/WebComponents/Catalog/Public/showproduct.asp?id=169&amp;cat=Childproofin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babygates.com/WebComponents/Catalog/Public/showproduct.asp?id=175&amp;cat=Childproofin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bygates.com/WebComponents/Catalog/Public/showproduct.asp?id=183&amp;cat=Childproofin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babygates.com/WebComponents/Catalog/Public/showproduct.asp?id=192&amp;cat=Childproofin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spinlife.com/critpath/match.cfm?categoryID=113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Housing to Meet Special Needs of Famil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y 1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rry Br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W Butler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67480" y="51055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 bars in bath and rubber or non-slip flo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 in shower/tub, chairs with 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Shower Size No-Slip Bath Mat"/>
          <p:cNvPicPr/>
          <p:nvPr/>
        </p:nvPicPr>
        <p:blipFill>
          <a:blip r:embed="rId1"/>
          <a:stretch/>
        </p:blipFill>
        <p:spPr>
          <a:xfrm>
            <a:off x="3048120" y="2209680"/>
            <a:ext cx="2800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o sit while preparing meals, varied height counters, room for kne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Wheelchair accessible stove"/>
          <p:cNvPicPr/>
          <p:nvPr/>
        </p:nvPicPr>
        <p:blipFill>
          <a:blip r:embed="rId1"/>
          <a:stretch/>
        </p:blipFill>
        <p:spPr>
          <a:xfrm>
            <a:off x="1219320" y="26668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das ada wheelchair accessible sink"/>
          <p:cNvPicPr/>
          <p:nvPr/>
        </p:nvPicPr>
        <p:blipFill>
          <a:blip r:embed="rId2"/>
          <a:stretch/>
        </p:blipFill>
        <p:spPr>
          <a:xfrm>
            <a:off x="4876920" y="26668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Impaired Vi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the flooring changes with wide strips of contrasting adhesive 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rge type or Braille on any product that would be considered poisonous (household clea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l furniture with sharp corners, glass tops, or that can turn over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should have large numerals or Braille.  Pre-program all emergency phon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-LITE A hands-free magnifying accessory. The neck extends to cover large areas. The lens rotates for easy viewing. The flexible shaft provides universal positioning. 3X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3X magnifier"/>
          <p:cNvPicPr/>
          <p:nvPr/>
        </p:nvPicPr>
        <p:blipFill>
          <a:blip r:embed="rId1"/>
          <a:stretch/>
        </p:blipFill>
        <p:spPr>
          <a:xfrm>
            <a:off x="6477120" y="3505320"/>
            <a:ext cx="15048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Hearing Impai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lighting to flash for doorbell, smoke alarms, and 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rtable vibrating timers in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Y/TDD telephone (can type message into phone to be recei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ic Shak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alarm clock"/>
          <p:cNvPicPr/>
          <p:nvPr/>
        </p:nvPicPr>
        <p:blipFill>
          <a:blip r:embed="rId1"/>
          <a:stretch/>
        </p:blipFill>
        <p:spPr>
          <a:xfrm>
            <a:off x="4724280" y="4267080"/>
            <a:ext cx="2857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ourc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using Deci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ges 108-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using and Interi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ges 31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pinlif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2007, ABCD, All rights 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Ronald Mace at NCSU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design is the design of products and environments to be usable by all people, to the greatest extent possible, without the need for adaptation or specialized desig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iversal design is to simplify life for everyone by making products, communications, and the built environment more usable by as many people as possible 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tle or no extra cost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niversal design benefits people of all ages and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Special Needs for Childr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gates at to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tom of st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ll household (cleaners, medicines, etc) behind locked 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2209680"/>
            <a:ext cx="1238040" cy="122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4572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648320"/>
            <a:ext cx="95256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19720" y="4724280"/>
            <a:ext cx="952560" cy="69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648320"/>
            <a:ext cx="95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plastic outlet caps over all unused electrical out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 cords of blinds high so children cannot reac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819520"/>
            <a:ext cx="1276560" cy="102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666880"/>
            <a:ext cx="1181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children away from any area that may have toxic or lead-based p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os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ch as acids, bleach, drain cleaner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m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rns easily Paint and Paint thinn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ve or produces deadly vapo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isonous to humans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743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Elderly</a:t>
            </a: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all floors to be of one type (all wood, all vinyl) for better mobility. Remove all rugs so not to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ty bars in the bathroom near toilet and batht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#27 bath tub grab bar"/>
          <p:cNvPicPr/>
          <p:nvPr/>
        </p:nvPicPr>
        <p:blipFill>
          <a:blip r:embed="rId1"/>
          <a:stretch/>
        </p:blipFill>
        <p:spPr>
          <a:xfrm>
            <a:off x="4343400" y="3581280"/>
            <a:ext cx="266688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Grab B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4114800"/>
            <a:ext cx="161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ty seats in t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ditional lighting in hallways and night l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ever handles on 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Nova Deluxe Shower Bench W/Out Back Stools &amp; Seats"/>
          <p:cNvPicPr/>
          <p:nvPr/>
        </p:nvPicPr>
        <p:blipFill>
          <a:blip r:embed="rId1"/>
          <a:stretch/>
        </p:blipFill>
        <p:spPr>
          <a:xfrm>
            <a:off x="1676520" y="22096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Invacare Bariatric Shower Chair with Back Stools &amp; Seats"/>
          <p:cNvPicPr/>
          <p:nvPr/>
        </p:nvPicPr>
        <p:blipFill>
          <a:blip r:embed="rId2"/>
          <a:stretch/>
        </p:blipFill>
        <p:spPr>
          <a:xfrm>
            <a:off x="380988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Click to view product #SCH-ACCENT"/>
          <p:cNvPicPr/>
          <p:nvPr/>
        </p:nvPicPr>
        <p:blipFill>
          <a:blip r:embed="rId3"/>
          <a:stretch/>
        </p:blipFill>
        <p:spPr>
          <a:xfrm>
            <a:off x="1447920" y="5181480"/>
            <a:ext cx="14284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be Smok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Gentex Strobe Smoke Detector"/>
          <p:cNvPicPr/>
          <p:nvPr/>
        </p:nvPicPr>
        <p:blipFill>
          <a:blip r:embed="rId1"/>
          <a:stretch/>
        </p:blipFill>
        <p:spPr>
          <a:xfrm>
            <a:off x="6019920" y="1752480"/>
            <a:ext cx="228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Times New Roman"/>
              </a:rPr>
              <a:t>Impaired Mobility and/or Wheel Chai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m doorway thresholds so they are flush with fl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andrails on both sides of stairs and hallways. Should extend at least 18” beyond las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383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7:59:47Z</dcterms:created>
  <dc:creator>s.brooks</dc:creator>
  <dc:description/>
  <dc:language>en-US</dc:language>
  <cp:lastModifiedBy>s.brooks</cp:lastModifiedBy>
  <dcterms:modified xsi:type="dcterms:W3CDTF">2009-01-05T20:22:21Z</dcterms:modified>
  <cp:revision>23</cp:revision>
  <dc:subject/>
  <dc:title>Housing to Meet Special Needs of Families</dc:title>
</cp:coreProperties>
</file>